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6E9-831B-4FFD-A69C-1CB044AE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48F-5309-46B3-BBE4-B2F3FB49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DEE-7153-4D5C-84B8-B0E5F4D5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BAF-581F-4471-942A-2BBC0A7C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EC30-1180-4052-9620-3C97640E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71F7-4A1B-4BC8-AB96-0D09682F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07BB-784B-4BA6-8999-F2AB27E6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94A2-F3F8-4F9F-AAEB-733FBD05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9B24-2C16-4FA0-AD75-6DDF3B61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2B5F-D8FC-48BC-BE34-4701C2CA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FD02-441F-44CA-9293-6086C40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44E-0B54-46EA-838E-8B55A3EF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1991-5B41-4B75-B239-00959B86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FBE3-9B9A-4FB6-8231-06736716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FF63-14F8-4FD5-BED5-1712AC30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90A8-B1C4-48B6-9423-27F9DD3D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2D5C-9929-469D-8254-BD23EEA8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0FD-F608-4BE1-9F19-4397BCBF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EC8-8FDB-4E22-ABBA-9F77C16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00E-0A35-4CF8-AC79-4B298CD9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A93-65A2-45CB-BD30-F697E253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03A-682D-445B-85A0-49558675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624-FF26-4E7E-8B78-F2BE378D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0B2-2608-40ED-A2B6-C8E15D49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7914-3E88-4764-8435-F694BD82BC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9600" cy="0"/>
          </a:xfrm>
          <a:prstGeom prst="line">
            <a:avLst/>
          </a:prstGeom>
          <a:ln w="38160">
            <a:solidFill>
              <a:srgbClr val="00cc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8C52-3DB2-41E0-BF7B-3EE877742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o Tell The Good News”</a:t>
            </a:r>
            <a:br>
              <a:rPr sz="40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art 1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Church Is Scattere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1, Lesson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s 9:1-31; 22:1-16; 26:1-18; Gal. 1:13-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46-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3429000"/>
            <a:ext cx="8153280" cy="0"/>
          </a:xfrm>
          <a:prstGeom prst="line">
            <a:avLst/>
          </a:prstGeom>
          <a:ln w="38160">
            <a:solidFill>
              <a:srgbClr val="00cc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581280"/>
            <a:ext cx="7239240" cy="0"/>
          </a:xfrm>
          <a:prstGeom prst="line">
            <a:avLst/>
          </a:prstGeom>
          <a:ln w="38160">
            <a:solidFill>
              <a:srgbClr val="00cc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FF72-E816-4DFA-BDDB-B77275ED8111}" type="slidenum">
              <a:t>1</a:t>
            </a:fld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 Obtained Mercy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1 Tim. 1:15-16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Timothy 1:15-16 (KJV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15] This is a faithful saying, and worthy of all acceptation, that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hrist Jesus came into the world to save sinn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of whom I am chief. [16] Howbeit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or this cause I obtained mer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that in me first Jesus Christ might shew forth all longsuffering, for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 pattern to them which should hereafter belie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n him to life everlas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905-7FD4-4411-B78A-CB16EFF73BBA}" type="slidenum">
              <a:t>10</a:t>
            </a:fld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’s Condition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8-12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inded by the 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 into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there three days and did not eat or dr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pray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ed a vision about a man who would come to him and restore his s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7D1-5636-486C-8A99-59AFC706212D}" type="slidenum">
              <a:t>11</a:t>
            </a:fld>
          </a:p>
        </p:txBody>
      </p: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anias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10-17; 22:12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Jewish disciple at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a good report of all the Jews which lived t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evout man according to the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w of Saul’s reputation in Jerusalem and the “special” authority he had from the chief pri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ed a vision from the L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AAA-21A4-4BEF-A913-C8B63B10E28F}" type="slidenum">
              <a:t>12</a:t>
            </a:fld>
          </a:p>
        </p:txBody>
      </p:sp>
    </p:spTree>
  </p:cSld>
  <p:transition spd="med">
    <p:comb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’s Conversion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17-18; 22:12-16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nias found Sa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put his hands on Sa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ul regained his sight, 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filled with the Holy Gh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nias told Sau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tar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ise, be baptized and wash away your s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 on the name of the L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E87-3FFD-4F40-9079-19CC59658B57}" type="slidenum">
              <a:t>13</a:t>
            </a:fld>
          </a:p>
        </p:txBody>
      </p:sp>
    </p:spTree>
  </p:cSld>
  <p:transition spd="med">
    <p:comb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’s Conversion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18-19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followed the Lord’s instru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rose and was baptiz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te and regained his str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stayed several days with the disciples in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D64-57F0-480E-AE0F-E5169F542B49}" type="slidenum">
              <a:t>14</a:t>
            </a:fld>
          </a:p>
        </p:txBody>
      </p:sp>
    </p:spTree>
  </p:cSld>
  <p:transition spd="med">
    <p:comb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ter Saul’s Baptism…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19-31; Gal. 1:13-2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ached Jesus in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amazed every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grew in str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proved that Jesus was the Chr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nt to Ara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do not know for how long or w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nt back to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d preaching and made disci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ws plotted to kill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20F-6E42-4D47-AF3F-004AB9AC96E0}" type="slidenum">
              <a:t>15</a:t>
            </a:fld>
          </a:p>
        </p:txBody>
      </p:sp>
    </p:spTree>
  </p:cSld>
  <p:transition spd="med">
    <p:comb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 Escapes To Jerusalem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23-26; Gal. 1:13-2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caped the plot to kill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isciples hel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ed to Jerusa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years had pas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d with Peter for fifteen d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rethren were afraid of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did not believe him to be a true disci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FF6-09F7-45F5-A079-2EC6691562B5}" type="slidenum">
              <a:t>16</a:t>
            </a:fld>
          </a:p>
        </p:txBody>
      </p:sp>
    </p:spTree>
  </p:cSld>
  <p:transition spd="med">
    <p:comb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arnabas Defends Saul 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27-29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ed to the apostles how Saul was conver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was then accepted and even preached in Jerusa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ebated with the Grecian J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plotted to kill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FEB-EE2B-40D0-B142-A3B8724D9901}" type="slidenum">
              <a:t>17</a:t>
            </a:fld>
          </a:p>
        </p:txBody>
      </p:sp>
    </p:spTree>
  </p:cSld>
  <p:transition spd="med">
    <p:comb dir="horz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 Forced To Flee Again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30-3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been in Jerusalem only 15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thren took him to Tarsus of Cili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homet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sciples (churches) in Judea, Galilee and Samaria had pea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urches were edified and grew in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20D-05EA-486B-83C4-78B46B4825DE}" type="slidenum">
              <a:t>18</a:t>
            </a:fld>
          </a:p>
        </p:txBody>
      </p:sp>
    </p:spTree>
  </p:cSld>
  <p:transition spd="med">
    <p:comb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B88-0D8B-4246-8BF1-5F8DB594E0CC}" type="slidenum">
              <a:t>2</a:t>
            </a:fld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, The Persecutor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1-19; 22:1-16; 26:1-18; Gal. 1:13-17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in the effort to persecute Christ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d others to blaspheme the name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 saints in pr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st his vote to kill Christ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full authority from the Sanhedr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nded his persecution activities well beyond Jerusalem – to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CCF-CA5F-439E-9BEC-822A3579EB0D}" type="slidenum">
              <a:t>3</a:t>
            </a:fld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, The Persecutor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22:4-5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dmitted his role in persecuting Christ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s 22:4-5 (KJV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4] And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 persecuted this way unto the dea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binding and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elivering into prisons both men and women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[5] As also the high priest doth bear me witness, and all the estate of the elders: from whom also I received letters unto the brethren, and went to Damascus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o bring them which were there bound unto Jerusalem, for to be punish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E9D-F6E3-4320-B855-E161EEDFA8AC}" type="slidenum">
              <a:t>4</a:t>
            </a:fld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, The Persecutor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Gal. 1:13-17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latians 1:13-14 (KJV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13] For ye have heard of my conversation in time past in the Jews' religion, how that beyond measure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 persecuted the church of God, and wasted i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[14] And profited in the Jews' religio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bove many my equa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mine own nation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eing more exceedingly zealo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traditions of my fath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7AC-D80F-4B9E-B010-A373924A39CC}" type="slidenum">
              <a:t>5</a:t>
            </a:fld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esus Selects Saul To Be An Apostl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Acts 9:3-7; 22:6-8; 26:12-18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traveled with compa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reat light suddenly shined upon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oice spoke to Sau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ul, Saul, why are you persecuting me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hard to kick against the ox-goa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, “Who are you, Lord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ply, “I am the Jesus of Nazareth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18D-8430-4C11-97BE-9256356449A1}" type="slidenum">
              <a:t>6</a:t>
            </a:fld>
          </a:p>
        </p:txBody>
      </p:sp>
    </p:spTree>
  </p:cSld>
  <p:transition spd="med"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esus Tells Saul Why...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15-16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end him to the Gent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aid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cts 9:15-16) (KJV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15] But the Lord said unto him, Go thy way: for he is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 chosen vesse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o me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o bear my name before the Genti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nd kings, and the children of Israel: [16] For I will shew him how great things he must suffer for my name's sak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463-63FD-4D25-A7BE-58F20837DD5C}" type="slidenum">
              <a:t>7</a:t>
            </a:fld>
          </a:p>
        </p:txBody>
      </p:sp>
    </p:spTree>
  </p:cSld>
  <p:transition spd="med"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esus Tells Saul Why...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22:14-15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end him to the Gent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aid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cts 22:14-15) (KJV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14] And he said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God of our fathers hath chosen thee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a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u shouldest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now his wi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e that Just 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uldest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ear the voice of his mou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15] For thou shalt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e his witness unto all m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thou hast seen and hear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DDE-0E5E-4173-A9AE-F3064C8B6F11}" type="slidenum">
              <a:t>8</a:t>
            </a:fld>
          </a:p>
        </p:txBody>
      </p:sp>
    </p:spTree>
  </p:cSld>
  <p:transition spd="med"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esus Tells Saul Why...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26:16-18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end him to the Gent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aid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cts 26:16-18) (KJV)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[16]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ut rise, and stand upon thy feet: for I have appeared unto the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for this purpos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to make thee a minist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a witnes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both of these things which thou hast seen, and of those things in the which I will appear unto thee; [17] Delivering thee from the people, and 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from the Gentiles, unto whom now I send the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 [18] 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To open their eyes, and to turn them from darkness to light, and from the power of Satan unto God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 that they may receive forgiveness of sins, and inheritance among them which are sanctified by faith that is in m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685-96F5-4FA1-87B9-63C6C5E1CCCA}" type="slidenum">
              <a:t>9</a:t>
            </a:fld>
          </a:p>
        </p:txBody>
      </p:sp>
    </p:spTree>
  </p:cSld>
  <p:transition spd="med"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9:03:39Z</dcterms:created>
  <dc:creator>Don Vines</dc:creator>
  <dc:description/>
  <dc:language>en-US</dc:language>
  <cp:lastModifiedBy>Frank D Vines</cp:lastModifiedBy>
  <dcterms:modified xsi:type="dcterms:W3CDTF">2007-01-31T22:51:35Z</dcterms:modified>
  <cp:revision>17</cp:revision>
  <dc:subject/>
  <dc:title>Slide 1</dc:title>
</cp:coreProperties>
</file>